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21E-B0FA-482F-A6CE-A6005FD32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ds On: 2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AADE-5131-499F-B877-088BAD2A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AEA-0257-46B7-A1E1-C24A9716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9E8-E4CD-4645-A1AC-A4956B9D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CF5-BDD5-4849-B18A-E04A9B44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253-047A-4522-9B47-AE7DAC0E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D1BF-1D93-4C66-859C-20B61676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CE14-FF4A-471A-9F65-FC6F126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9AE2-067A-4210-A27C-0F6F3CDB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BF6B-204D-40F7-BF67-2CEAD747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7BD4-BC31-497A-AC98-E00583A3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210-62F7-48AC-9498-7F071457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69A-4D6B-44DF-8C9B-B01B321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92D-3BC2-4FB3-8CC6-183A3F11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1F8E-7BC9-4BF0-9E75-C955208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208-3C81-4CC1-A085-1BDA3C5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4A2A-C849-4EC7-8405-3205E8AE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AF75-96E7-4360-A7FE-28997A73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E878-C249-4988-8518-A6319869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C44-F9F2-4383-ADA3-446271F5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D68-F198-4CDA-9DD2-853287F0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31C-D3C5-4BE3-9F61-6661C5D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2E5-DFBD-4D44-8F2B-FB1FA524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01E-A3C3-44FD-95F3-A842454C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739-51D4-433C-B109-6445D173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36F-8EC9-4B8D-AE80-FAF1E16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A51F-67FA-41F2-92EA-7928F704503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D766-9F1E-4FE8-BDDC-433C3BF0A5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Leadership:  Data Wall Consolid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747720" y="620640"/>
            <a:ext cx="78566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46200" y="2491920"/>
            <a:ext cx="5041800" cy="24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 Domains:  Leadership Ac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48000" y="5010120"/>
            <a:ext cx="5400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olidation: Learning and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GAINS_Globe_70smws"/>
          <p:cNvPicPr/>
          <p:nvPr/>
        </p:nvPicPr>
        <p:blipFill>
          <a:blip r:embed="rId1"/>
          <a:stretch/>
        </p:blipFill>
        <p:spPr>
          <a:xfrm>
            <a:off x="34920" y="549360"/>
            <a:ext cx="33591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IME Leadershi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546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PRIME Equity, Assessment, Teaching and Learning, and Curriculum Leadership indicators and leadership actions for the three stages of leadership (BLM L.1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80000" y="1908000"/>
            <a:ext cx="2260800" cy="2943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80000" y="4932360"/>
            <a:ext cx="232092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3628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the PRIME Equity, Assessment, Teaching and Learning, and Curriculum Leadership indicators and leadership actions for the three stages of leadership (BLM L.1.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1"/>
          <a:stretch/>
        </p:blipFill>
        <p:spPr>
          <a:xfrm>
            <a:off x="996840" y="4941720"/>
            <a:ext cx="2476440" cy="160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"/>
          <p:cNvPicPr/>
          <p:nvPr/>
        </p:nvPicPr>
        <p:blipFill>
          <a:blip r:embed="rId2"/>
          <a:stretch/>
        </p:blipFill>
        <p:spPr>
          <a:xfrm>
            <a:off x="3300480" y="494172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3"/>
          <a:stretch/>
        </p:blipFill>
        <p:spPr>
          <a:xfrm>
            <a:off x="5605560" y="4941720"/>
            <a:ext cx="2495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2071440"/>
            <a:ext cx="745632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green dots to identify the Leadership actions that were addressed during the Math CAMPPP Leadership focused break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8245440" y="242100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7885080" y="242100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8601120" y="242100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"/>
          <p:cNvPicPr/>
          <p:nvPr/>
        </p:nvPicPr>
        <p:blipFill>
          <a:blip r:embed="rId1"/>
          <a:stretch/>
        </p:blipFill>
        <p:spPr>
          <a:xfrm>
            <a:off x="923760" y="4834080"/>
            <a:ext cx="2476800" cy="1609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"/>
          <p:cNvPicPr/>
          <p:nvPr/>
        </p:nvPicPr>
        <p:blipFill>
          <a:blip r:embed="rId2"/>
          <a:stretch/>
        </p:blipFill>
        <p:spPr>
          <a:xfrm>
            <a:off x="3227400" y="483408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"/>
          <p:cNvPicPr/>
          <p:nvPr/>
        </p:nvPicPr>
        <p:blipFill>
          <a:blip r:embed="rId3"/>
          <a:stretch/>
        </p:blipFill>
        <p:spPr>
          <a:xfrm>
            <a:off x="5532480" y="4834080"/>
            <a:ext cx="2495520" cy="1590480"/>
          </a:xfrm>
          <a:prstGeom prst="rect">
            <a:avLst/>
          </a:prstGeom>
          <a:ln w="0">
            <a:noFill/>
          </a:ln>
        </p:spPr>
      </p:pic>
      <p:sp>
        <p:nvSpPr>
          <p:cNvPr id="113" name="Oval 10"/>
          <p:cNvSpPr/>
          <p:nvPr/>
        </p:nvSpPr>
        <p:spPr>
          <a:xfrm>
            <a:off x="8245440" y="285264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7885080" y="285264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8601120" y="285264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8245440" y="328464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7885080" y="328464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8601120" y="3284640"/>
            <a:ext cx="291960" cy="288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8245440" y="371628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7885080" y="371628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8601120" y="3716280"/>
            <a:ext cx="29196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760" y="2071440"/>
            <a:ext cx="745632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blue dots to identify the Leadership actions that you wish to make happen in your school / board this coming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8245440" y="242100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885080" y="242100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8601120" y="242100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"/>
          <p:cNvPicPr/>
          <p:nvPr/>
        </p:nvPicPr>
        <p:blipFill>
          <a:blip r:embed="rId1"/>
          <a:stretch/>
        </p:blipFill>
        <p:spPr>
          <a:xfrm>
            <a:off x="923760" y="4834080"/>
            <a:ext cx="2476800" cy="1609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"/>
          <p:cNvPicPr/>
          <p:nvPr/>
        </p:nvPicPr>
        <p:blipFill>
          <a:blip r:embed="rId2"/>
          <a:stretch/>
        </p:blipFill>
        <p:spPr>
          <a:xfrm>
            <a:off x="3227400" y="483408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3"/>
          <a:stretch/>
        </p:blipFill>
        <p:spPr>
          <a:xfrm>
            <a:off x="5532480" y="4834080"/>
            <a:ext cx="2495520" cy="1590480"/>
          </a:xfrm>
          <a:prstGeom prst="rect">
            <a:avLst/>
          </a:prstGeom>
          <a:ln w="0">
            <a:noFill/>
          </a:ln>
        </p:spPr>
      </p:pic>
      <p:sp>
        <p:nvSpPr>
          <p:cNvPr id="130" name="Oval 10"/>
          <p:cNvSpPr/>
          <p:nvPr/>
        </p:nvSpPr>
        <p:spPr>
          <a:xfrm>
            <a:off x="8245440" y="285264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7885080" y="285264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8601120" y="285264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8245440" y="328464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7885080" y="328464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601120" y="3284640"/>
            <a:ext cx="291960" cy="288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8245440" y="371628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7885080" y="371628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2"/>
          <p:cNvSpPr/>
          <p:nvPr/>
        </p:nvSpPr>
        <p:spPr>
          <a:xfrm>
            <a:off x="8601120" y="3716280"/>
            <a:ext cx="29196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IME Leadership: Data Wal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u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d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863960" y="3068640"/>
            <a:ext cx="29232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4503600" y="3068640"/>
            <a:ext cx="29232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5219640" y="3068640"/>
            <a:ext cx="292320" cy="2890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4503600" y="3573360"/>
            <a:ext cx="29232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219640" y="3573360"/>
            <a:ext cx="29232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863960" y="3573360"/>
            <a:ext cx="292320" cy="289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4500720" y="2565360"/>
            <a:ext cx="29196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859280" y="2565360"/>
            <a:ext cx="29232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5219640" y="2565360"/>
            <a:ext cx="29232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"/>
          <p:cNvPicPr/>
          <p:nvPr/>
        </p:nvPicPr>
        <p:blipFill>
          <a:blip r:embed="rId1"/>
          <a:stretch/>
        </p:blipFill>
        <p:spPr>
          <a:xfrm>
            <a:off x="923760" y="4581360"/>
            <a:ext cx="2476800" cy="1609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"/>
          <p:cNvPicPr/>
          <p:nvPr/>
        </p:nvPicPr>
        <p:blipFill>
          <a:blip r:embed="rId2"/>
          <a:stretch/>
        </p:blipFill>
        <p:spPr>
          <a:xfrm>
            <a:off x="3227400" y="4581360"/>
            <a:ext cx="2495520" cy="16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3"/>
          <a:stretch/>
        </p:blipFill>
        <p:spPr>
          <a:xfrm>
            <a:off x="5532480" y="4581360"/>
            <a:ext cx="24955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8-19T18:20:58Z</dcterms:modified>
  <cp:revision>182</cp:revision>
  <dc:subject/>
  <dc:title>Slide 1</dc:title>
</cp:coreProperties>
</file>